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FF563-A4DE-4BAC-91AB-A9A6EE4C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66A4D-60C6-4E27-BC01-899E62B6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70BA7-DBF5-4D04-9C45-74E59D413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7CE01-720E-4215-8556-C5F300426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E2490-9BF6-4F09-907C-28D551F24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7FE8B-F89C-4251-A79E-053B423FA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2695F-0FC0-4567-BEBC-B9B8E88BA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B45B0-E355-4FA3-B35A-0DE152D90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9C656-B15C-4B5B-A200-772C6E414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93B46-B353-4D2A-B6E7-B939E0F75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AF92A-2C87-4DA2-BAB9-40E256989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53620-0EA9-49F9-A7EF-9D7794C01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2B257-01B6-4AFB-A8F5-5BB1C1C2C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93F8D-F811-4997-A238-5C0CF1DC8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627EB-1717-4EDE-9A26-B68D41B55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DEFDA-3A7E-460E-BF00-1B884B37F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163D8-5796-4C6D-9CD4-5EE87212A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E5F5-D985-43A7-A9D7-A673CC0D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3A78C-E8C2-4666-8262-A3DCB4F7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E7BBC-C225-4D40-A4CE-11DEB397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F33D-EAB7-4FC2-93BF-17A0413E8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3D10-EE08-4E80-8F04-70759EEE4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2198-2EB4-43C7-AC0B-881C03D3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F455-EF03-49A1-B7AB-546483A09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CEF3-7649-40C4-A432-F5FF53D37A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8D8E-4620-4F20-B952-255BE4BF53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ology.clc.uc.edu/courses/bio104/protein.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WordArt 4"/>
          <p:cNvSpPr txBox="1"/>
          <p:nvPr/>
        </p:nvSpPr>
        <p:spPr>
          <a:xfrm>
            <a:off x="228600" y="838080"/>
            <a:ext cx="86868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70c0"/>
                </a:solidFill>
                <a:latin typeface="Cooper Black"/>
              </a:rPr>
              <a:t>Biological Science</a:t>
            </a:r>
            <a:endParaRPr b="0" lang="en-US" sz="1800" spc="1" strike="noStrike">
              <a:ln w="28440">
                <a:solidFill>
                  <a:srgbClr val="000000"/>
                </a:solidFill>
                <a:miter/>
              </a:ln>
              <a:solidFill>
                <a:srgbClr val="0070c0"/>
              </a:solidFill>
              <a:latin typeface="Cooper Black"/>
              <a:ea typeface="Cooper Black"/>
            </a:endParaRPr>
          </a:p>
        </p:txBody>
      </p:sp>
      <p:pic>
        <p:nvPicPr>
          <p:cNvPr id="82" name="Picture 16" descr="scistartlogo2"/>
          <p:cNvPicPr/>
          <p:nvPr/>
        </p:nvPicPr>
        <p:blipFill>
          <a:blip r:embed="rId2"/>
          <a:stretch/>
        </p:blipFill>
        <p:spPr>
          <a:xfrm>
            <a:off x="6629400" y="152280"/>
            <a:ext cx="2381400" cy="447840"/>
          </a:xfrm>
          <a:prstGeom prst="rect">
            <a:avLst/>
          </a:prstGeom>
          <a:ln w="0">
            <a:noFill/>
          </a:ln>
        </p:spPr>
      </p:pic>
      <p:sp>
        <p:nvSpPr>
          <p:cNvPr id="83" name="WordArt 17"/>
          <p:cNvSpPr txBox="1"/>
          <p:nvPr/>
        </p:nvSpPr>
        <p:spPr>
          <a:xfrm>
            <a:off x="4114800" y="3200400"/>
            <a:ext cx="44956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2892ac"/>
                </a:solidFill>
                <a:latin typeface="Cooper Black"/>
              </a:rPr>
              <a:t>Biochemistry</a:t>
            </a:r>
            <a:endParaRPr b="0" lang="en-US" sz="1800" spc="1" strike="noStrike">
              <a:ln w="28440">
                <a:solidFill>
                  <a:srgbClr val="000000"/>
                </a:solidFill>
                <a:miter/>
              </a:ln>
              <a:solidFill>
                <a:srgbClr val="2892ac"/>
              </a:solidFill>
              <a:latin typeface="Cooper Black"/>
              <a:ea typeface="Cooper Black"/>
            </a:endParaRPr>
          </a:p>
        </p:txBody>
      </p:sp>
      <p:pic>
        <p:nvPicPr>
          <p:cNvPr id="84" name="Picture 8" descr="C:\Users\Liz\AppData\Local\Microsoft\Windows\Temporary Internet Files\Content.IE5\CPHVRLKO\MCj02296450000[1].wmf"/>
          <p:cNvPicPr/>
          <p:nvPr/>
        </p:nvPicPr>
        <p:blipFill>
          <a:blip r:embed="rId3"/>
          <a:stretch/>
        </p:blipFill>
        <p:spPr>
          <a:xfrm>
            <a:off x="685800" y="3276720"/>
            <a:ext cx="2590920" cy="26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are only 20 different common amino acids, why is it possible to have thousands of different proteins?  Why do you think it is important to have so many different kinds of proteins?  </a:t>
            </a:r>
            <a:endParaRPr b="0" lang="en-US" sz="3200" spc="-1" strike="noStrike">
              <a:solidFill>
                <a:srgbClr val="ffffff"/>
              </a:solidFill>
              <a:latin typeface="Tahoma"/>
            </a:endParaRPr>
          </a:p>
        </p:txBody>
      </p:sp>
      <p:sp>
        <p:nvSpPr>
          <p:cNvPr id="87" name="">
            <a:hlinkClick r:id="rId2"/>
          </p:cNvPr>
          <p:cNvSpPr/>
          <p:nvPr/>
        </p:nvSpPr>
        <p:spPr>
          <a:xfrm>
            <a:off x="3809880" y="4876920"/>
            <a:ext cx="1143000" cy="990360"/>
          </a:xfrm>
          <a:custGeom>
            <a:avLst/>
            <a:gdLst>
              <a:gd name="textAreaLeft" fmla="*/ 64080 w 1143000"/>
              <a:gd name="textAreaRight" fmla="*/ 1078920 w 1143000"/>
              <a:gd name="textAreaTop" fmla="*/ 64080 h 990360"/>
              <a:gd name="textAreaBottom" fmla="*/ 926280 h 990360"/>
            </a:gdLst>
            <a:ahLst/>
            <a:rect l="textAreaLeft" t="textAreaTop" r="textAreaRight" b="textAreaBottom"/>
            <a:pathLst>
              <a:path w="24928" h="21600">
                <a:moveTo>
                  <a:pt x="0" y="0"/>
                </a:moveTo>
                <a:lnTo>
                  <a:pt x="24928" y="0"/>
                </a:lnTo>
                <a:lnTo>
                  <a:pt x="24928" y="21600"/>
                </a:lnTo>
                <a:lnTo>
                  <a:pt x="0" y="21600"/>
                </a:lnTo>
                <a:close/>
              </a:path>
              <a:path fill="lightenLess" w="24928" h="21600">
                <a:moveTo>
                  <a:pt x="0" y="0"/>
                </a:moveTo>
                <a:lnTo>
                  <a:pt x="24928" y="0"/>
                </a:lnTo>
                <a:lnTo>
                  <a:pt x="23528" y="1400"/>
                </a:lnTo>
                <a:lnTo>
                  <a:pt x="1400" y="1400"/>
                </a:lnTo>
                <a:close/>
              </a:path>
              <a:path fill="darken" w="24928" h="21600">
                <a:moveTo>
                  <a:pt x="24928" y="0"/>
                </a:moveTo>
                <a:lnTo>
                  <a:pt x="24928" y="21600"/>
                </a:lnTo>
                <a:lnTo>
                  <a:pt x="23528" y="20200"/>
                </a:lnTo>
                <a:lnTo>
                  <a:pt x="23528" y="1400"/>
                </a:lnTo>
                <a:close/>
              </a:path>
              <a:path fill="darkenLess" w="24928" h="21600">
                <a:moveTo>
                  <a:pt x="24928" y="21600"/>
                </a:moveTo>
                <a:lnTo>
                  <a:pt x="0" y="21600"/>
                </a:lnTo>
                <a:lnTo>
                  <a:pt x="1400" y="20200"/>
                </a:lnTo>
                <a:lnTo>
                  <a:pt x="23528" y="20200"/>
                </a:lnTo>
                <a:close/>
              </a:path>
              <a:path fill="lighten" w="24928" h="21600">
                <a:moveTo>
                  <a:pt x="0" y="21600"/>
                </a:moveTo>
                <a:lnTo>
                  <a:pt x="0" y="0"/>
                </a:lnTo>
                <a:lnTo>
                  <a:pt x="1400" y="1400"/>
                </a:lnTo>
                <a:lnTo>
                  <a:pt x="1400" y="20200"/>
                </a:lnTo>
                <a:close/>
              </a:path>
              <a:path fill="darken" w="24928" h="21600">
                <a:moveTo>
                  <a:pt x="12464" y="3794"/>
                </a:moveTo>
                <a:arcTo wR="7006" hR="7006" stAng="16200000" swAng="-5400000"/>
                <a:arcTo wR="7006" hR="7006" stAng="10800000" swAng="-5400000"/>
                <a:arcTo wR="7006" hR="7006" stAng="5400000" swAng="-5400000"/>
                <a:arcTo wR="7006" hR="7006" stAng="0" swAng="-5400000"/>
                <a:close/>
              </a:path>
              <a:path fill="lighten" w="24928" h="21600">
                <a:moveTo>
                  <a:pt x="12464" y="4168"/>
                </a:moveTo>
                <a:arcTo wR="1793" hR="1793" stAng="16200000" swAng="-5400000"/>
                <a:arcTo wR="1793" hR="1793" stAng="10800000" swAng="-5400000"/>
                <a:arcTo wR="1793" hR="1793" stAng="5400000" swAng="-5400000"/>
                <a:arcTo wR="1793" hR="1793" stAng="0" swAng="-5400000"/>
                <a:close/>
              </a:path>
              <a:path fill="lighten" w="24928" h="21600">
                <a:moveTo>
                  <a:pt x="9888" y="8224"/>
                </a:moveTo>
                <a:lnTo>
                  <a:pt x="13752" y="8224"/>
                </a:lnTo>
                <a:lnTo>
                  <a:pt x="13752" y="15221"/>
                </a:lnTo>
                <a:lnTo>
                  <a:pt x="15040" y="15221"/>
                </a:lnTo>
                <a:lnTo>
                  <a:pt x="15040" y="16144"/>
                </a:lnTo>
                <a:lnTo>
                  <a:pt x="9888" y="16144"/>
                </a:lnTo>
                <a:lnTo>
                  <a:pt x="9888" y="15221"/>
                </a:lnTo>
                <a:lnTo>
                  <a:pt x="11176" y="15221"/>
                </a:lnTo>
                <a:lnTo>
                  <a:pt x="11176" y="9129"/>
                </a:lnTo>
                <a:lnTo>
                  <a:pt x="9888" y="912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13:29:02Z</dcterms:created>
  <dc:creator>PritchaJ</dc:creator>
  <dc:description/>
  <dc:language>en-US</dc:language>
  <cp:lastModifiedBy>PritchaJ</cp:lastModifiedBy>
  <dcterms:modified xsi:type="dcterms:W3CDTF">2011-06-01T13:30:43Z</dcterms:modified>
  <cp:revision>1</cp:revision>
  <dc:subject/>
  <dc:title>Slide 1</dc:title>
</cp:coreProperties>
</file>